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DB9ED-3E84-47D0-8867-79D326460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7168A-7CC7-4BE6-9106-DEA0AB7D9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0BD9EE-9E31-4FAE-B5BE-553CC82C9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264528-3933-4702-BC08-1D7092069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44C4CC-1B30-4556-8D22-51017854C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AA671B-9512-4AE3-B361-7F92C8BE8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ED9922-6B2A-4C0A-B029-E8B313DAA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72A4F6-4F15-4A2D-830C-A524186D7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32E8BD-1ADF-42D0-B32D-4118E9A96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128272-FC30-48D0-8D91-AC2F67FF6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5A5C92-2C94-4005-AA7A-62358D4CD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C13E2D-0E46-472E-B7E1-60794F665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8B34B-3D75-4600-8626-F266BBF4B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DB8C9E-6651-4CE0-A495-3A12F950C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A23FB5-D87D-444F-B6A3-4C3ED06ED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1C792B-89BA-4074-A781-2CA4A588C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729691-1A4C-4229-9D78-8757A17FA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F97564-DBF0-4941-B2DD-07D55ED1D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032462-38D2-481E-A3EF-06103963A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77EB03-33DE-4C28-BAD9-3FF4C1B6A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B08978-36F8-4AFC-AA82-53A49178F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B78F19-16A2-421F-8D30-A5B90C6CB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C0C43E-36CC-4076-B102-97E0DF3EE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7F584-B662-4942-B186-FFA40693D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22B167-AD40-4B74-B5E2-2244CFCA9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866AB6-356D-4227-9E66-EFC248C48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4EE9A4-51BD-4CCD-B411-8342A5CF9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491B77-D843-4430-A5ED-288F46BE0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E429BB-DE31-47CA-B817-1E592558D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4AD3EF-925D-48EF-8151-32FAC0301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433647-B1BC-4535-9C60-C0E568382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7F4D20-08B0-4AF3-A82F-A261AC13C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8CCFEA-B3B3-49A4-86F4-9E3162413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DE8120-2F99-45BD-9023-B39B6F6D9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76BF6-8F83-4105-92E9-4793304C0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8D29FD-2CC6-4E6E-ADAD-672873F43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12D3F8-6EE0-473C-AD0C-944A7BB82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21DC2C-2B71-44A8-B225-A143ADA0B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BC2E06-27FA-425B-9214-F268AF19F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E1E48E-A865-46E9-8544-E34565173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442D2E-8E13-4908-8C4F-68EF6A83D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CE1D9D-31DE-44B7-9572-D96F2D578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D782A0-DED0-4B37-9AC3-EE777D89C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23D88C-8861-4BD3-B8C6-5D729FF9B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1850C6-BA98-49B5-B459-4E25203E7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AF024-1BF8-455E-841A-3A9D9E9DA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8E4E05-A9A6-436A-9504-5E47942A7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5F19C7-BE1F-41FF-85C4-DF1241E14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5B1325-633B-45C9-9B87-69525D39D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D8B633-B55D-4AB7-A5D9-49CAC66DA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147B11-21C9-414E-B7F7-003A4F2F0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F5A83AD-C20D-48E0-8E07-AD320846E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E1067CA-760A-4173-BDDD-F1A111467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204DF9A-C5BE-40C1-8869-9EC25D33B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4E7EABD-A93A-47F5-B0D9-79309F756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AE34BE5-DB3A-4207-92DF-BA003A7F0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915A2-4E27-4E71-8F6D-7168A5150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8C788AF-C572-4923-A376-0BE8D84E1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DE83F20-6E7C-454D-A2B8-45D58E7E2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A2449FA-873C-42B4-97DA-BE57DAE38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3A496DC-2739-4A59-AD92-E51E0ECD1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C1DF277-87BD-4D4D-B655-CC7BAAEAD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312A362-E99E-4151-8C83-2B89B4983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946DF23-7897-46EF-A65B-8B3916F82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80B6707-7E04-4E92-B23D-492B8354D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E04DCF3-5532-47D0-849F-E6E7CBB05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61AB93B-767B-4F85-B795-740AC78DB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C5F77-DCEA-40AC-AB71-7C821775B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F9AB8DF-B7BD-4825-8C40-F45335F7A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DF9119E-566A-4423-9230-F703FF684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04554B2-8F0C-47B3-A537-26C5D35B7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DFD6C8B-913F-4082-82D5-CC3BDD919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6142819-0601-4D59-87AF-F7C11B3AA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2E8DADA-297A-4B33-B246-D2F5879CE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9B7E913-2621-41AE-B7A8-D85D9A3FE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BB0F04D-3C1F-4F06-BCF1-9C30D31C3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40F3A4F-18C1-4F3E-8567-41DEC8C14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1C3C3AE-B1EB-4580-BF41-C4007B16B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2B978-53C2-46A7-9AD6-6A24D3A0C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50FACF8-7BDE-4E42-9CF3-DD9683C92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F4277F3-CD7D-4B6C-93A0-589A4CBAB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94B13DE-7D3D-4F76-A829-AB48CABC5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2E25389-76C4-4CB9-B6C5-1E6764863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AA9CFE3-C3BE-4B39-9A91-0C1C9645F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E27DB62-107B-418F-B653-D65F782AA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3ED6E40-3710-45B7-8C32-67C00FA3A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1079976-D765-4E3E-A254-A6EC7685E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BFE97A1-9120-41A1-9D4D-7FA8CAA3C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F4BF02F-C9D7-4887-88B6-DFBFD16D6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B087D-0F19-4AD0-AF4C-01F51A6EA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7FF789A-20DB-47C5-A632-B6C9F53ED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EC5DC48-5B61-426A-AA5E-2F3FDEB4D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B136EA9-7464-4F47-9FF1-8B8CD304A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9C294DF-A110-40BD-B3AA-17090DB86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3843ED6-6154-464F-BEE7-66FBE70C5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45723E8-EE19-4785-8BB7-0CE3BEFFD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35DB2F7-15BD-463F-9E45-000361102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E8FE875-7CD7-462F-A2E4-CDEEA72C7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4479F05-81D3-49A6-8F40-45A50AEE9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ACB5359-7EBB-4C48-B1D8-947431EED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8368B-3212-4F16-B61F-9CD02E02B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07C5A1C-6A40-4F42-B4A6-3CE582168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34051CA-9C67-41EC-8E6F-838E70C1C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E8F06CB-F8C1-467B-ABDF-CBA47EF59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6087789-77C5-4F4A-9F00-32D328192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587FD2F-FBE7-4946-AB06-E0B71AF05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28D94BF-A856-40B4-9A05-EA23D995A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D0C0B3D-D53F-4D1E-93ED-2A83B9EDB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9808D11-C7ED-4F8B-9635-7C945FDD4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5373668-ABD0-4DF6-AE3A-9742CFF92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37D53D9-E124-4C5A-8FEE-82E359B4B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D8BAF-4BBD-4487-8778-BA6CAA51C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7152B-7061-43BE-84A8-97729403B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49D2AC1-5708-4478-8F30-DE2FC3F76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33B3666-DAAF-4015-A1ED-9838B703E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CCD6FE5-1505-40D0-8B0E-DF76C6008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8A3AF69-CA10-4435-969A-AE352B96C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597269E-793D-480C-80F9-10F849787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0274AE1-00A8-49E7-A073-CE7EF9F51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B74993E-FAA4-49DF-9E6E-B959E5F7C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7DA2367-57A7-436A-81B2-0A9EAA889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97F111C-E715-4322-9B4E-7E92C1557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02580E2-C97D-4465-914B-9E37A9655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535EF-9622-4FE2-AAAE-1FDC8981C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7A02F25-04BA-4304-8EE3-EC0BF9967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C1FA608-92A1-46F4-9991-4290A6E17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FBD2080-C0A5-4BBB-9DE0-299002010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F3A585E-E48D-40DD-A4EE-CA8BF0568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B7E88BA-4E12-4E2E-AC23-41594C591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6DB9C06-8C70-4525-BDBA-8575A555F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5C99BFF-3678-4E12-B6AD-C69D51CA7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ACAAAAB-CF88-4E13-831A-724260AE0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E97C5F6-A538-4662-A566-59C7BBE9C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59709F3-A39C-4065-A871-0157818D5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1FCD7-F492-4E5C-BB97-89D253413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EE0CA0A-E60D-4B33-97F1-A16FC16BF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EF35657-79E2-4BDB-B8C0-B7489A621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DAC724B-3AD9-424A-935E-341545F98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9789055-334C-41AC-A8E4-96205AE79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EF63246-6500-4D11-940A-342DB5C14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EEDD73B-8F29-4C9D-BC79-4B6E33494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5077A50-DD77-4D12-A142-642CA1040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2A9CACE-A0CD-4F58-9FE3-0BF2924C9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CEBE7E6-4FD4-4B0E-AD75-B51B87078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9529A71-5BD5-4393-89B3-B8F37A8C5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6B757-B4AC-42F6-B4D3-D50475661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6015790-8950-44C1-8291-0CFFA087A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88E9CAD-E140-4035-9678-C6FBE3873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39C2FD1-8AF0-490C-9B69-B46ABF993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3E9E310-7FE3-44DB-8542-A72A6643B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1FBD7EA-87C8-49ED-9871-AEC487BBA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A8A8B1B-0E11-42E6-BC47-B9252D989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36AA868-FF61-470B-B7C5-4CFC44233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94AEE90-9940-4134-98E4-EED520F74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397E27E-E11A-468D-996F-12C3CE573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EBB326D-5D5E-47AD-8AA5-3D3BBD7E6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69C28-0FC2-47AB-97CD-E2EF02D62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90535B6-7C6C-4C16-843C-DD89EE4A7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EF111C7-DD7C-47D8-A906-BA3AFD0E9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131E60A-C570-429D-9164-2AB3D1682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22C2350-38F2-4F6F-BD4C-4741D3DD4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AC59A24-A72F-4E06-9C63-8E155289A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C54F5EC-7CAB-4F28-B082-50F55B551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1289803-01EB-47C6-A493-F82E13723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A7ADF13-3965-404A-822F-57E6191FF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18FF0CD-E137-4E73-973C-411E3C120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F0B61A2-F9C1-46DD-BDD8-BA149D7DB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75E37C-1794-40F2-98C9-23BB9476B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ADA7E50-B731-4B8C-8DC2-3B88CA884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44C9948-A572-4BF7-8FF3-1860AE75A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DFA6B93-F9D3-4FA0-8B6F-22FC7AE61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236694-0CB6-457E-8FD0-79157A87F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97034D-3248-4F2F-9112-5C3353FCE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844823-35A9-4104-AB5D-99D8CC3E4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DD10F5-BCDB-4D71-81C8-A3350A2AD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88606-018B-4011-888B-11501C202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D53337-DD01-45FE-97D3-CA76EE6A2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ED2CE6-2C65-45A3-9B5A-54899CF15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A7B01B-D34C-4664-8995-F17864B26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2F8FB7-116B-461F-BF41-0B967A777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697CDE-25D0-4459-9804-39451FA1C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694F46-CF48-4F6E-9480-814493E11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20AFAC-FD6B-40E3-948F-D36DF473D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E503A7-785F-4D81-BE74-A8DB1B9C8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5DE227-A0A3-4F44-AE40-7B6486DF7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8F00EC-9084-4D27-BECA-EF5BDF995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FDA19-D51F-4F4F-85F6-2FE8B3DE7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01AEB5-F5F7-42DF-BEF2-7E928FB48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11C81B-F6AC-4347-A724-A130BE355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218CC4-9E29-4C89-ABBD-D0A9032AE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0FB048-E725-46EB-BDD8-45C526BFC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0D7592-1DD3-4BEC-8388-FD45D10F5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1BD636-C021-4DBD-AAB2-DC22FB5D6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E63B00-B9B7-4F84-90FD-120971F7B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3A25F6-2BA9-4686-B57E-7282425C1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1D7F38-C9D6-42DE-A2F7-6594DD976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AFB822-3D47-4A36-B618-92E0EDF13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300F8-5FE2-40A1-9DF2-978954260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5B2C67-EC17-43F8-877D-B87B3340E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2485FB-7E99-43B9-A2EB-15E8E8202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FD3F46-1511-43B3-AC1A-FEF399F50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A8E439-D27D-4D10-862B-1A3B2681E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750335-2668-4530-9E4B-1EF254422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BAC782-15A1-4545-AFA9-3529B89B7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1D6B17-ABCA-4AC8-A89F-5D242604D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2D3EA3-544B-4225-AEAD-176358FD6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D7C8D1-2054-4160-83F0-8638DB34D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6608C1-946B-426D-988C-C0195A9CB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8C1E0-BC8E-4772-A5C3-B01597340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720BBD-743D-4FD7-9982-D1EE6A608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DA7A01-B2BF-4228-9F34-C1BFE1BF9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507A98-A2F4-4298-AA27-FF39C842F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30F0D1-C042-46B9-8317-4B72A0AEC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252968-DE98-4E4D-BA49-6C27A7FD7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FF439B-76B5-42F8-9904-DD09BC42E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25AA9D-C058-42C2-A1BE-92A8F00FD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03CED8-50C6-422D-9555-C41529713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7FDD33-6393-44C3-8287-9EEB69C0C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A0BB2A-F0C9-45B1-9E6D-E91FB52C2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37B53-BA30-4822-A8A2-BF06137F2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A9B5F6-325B-48D6-8E7D-795D53861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7EC8B1-0F54-4EDF-AC81-F5C0D9C88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EB6648-82D5-4806-8610-2055DD74C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FF1EBB-AB53-480B-BC6E-DB79DA5C1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9DB1A7-1D5F-476C-9886-C9FC1FFBC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811CB2-DE5F-459B-8DF5-DDD442E00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8FA48D-2F1F-4F7B-84CA-B257F0167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1D2CF7-1F7C-4421-92D5-3723D3B09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046E25-AEED-468E-9121-54EEC1196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A6A05B-BD49-4913-AE92-E2C88C5CB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33A96-F29E-4FBB-8443-B0E31A402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E4ABE4-AA44-437A-8DF5-EB4E55477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655C8F-1180-418D-B7E8-BCC8BA793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A751B0-3168-4808-904A-1E2F04C8D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3411E6-3887-45DE-83C0-CE6A44445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82BE94-8AFF-4E9A-88F1-85E5B0FEF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F2D6CA-4E63-4681-8397-3A7C688EF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55EC1F-3BA8-4AE4-BCD7-F2F46AEB6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97880F-926E-46F2-A299-2399660CA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B5FB67-4300-4E30-9B62-17C22C22B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4BDD4C-13B0-46C9-B283-26FB5184E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BE5A0-7FB2-47CF-85DA-22FF17149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2C3536-7DEC-46D7-880B-D47A6B36B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9C3A6F-A2F3-4151-B296-E67CEC797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CCEB13-56FA-45F0-ACFA-8A4DB2567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DD8795-CCA3-4CE0-AFC4-16E437968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C304D0-B1CC-471C-BF47-CA03573C0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75A736-3AD4-4287-AA6D-61395398C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E31F85-1DEF-4A25-A7E1-A3A15E66E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75B62C-7A02-45C1-A1EF-35B7F1CEB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427406-957D-468D-86B3-C9939C21E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A49E44-8A79-480A-9653-95202DE5D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4A301-EDC3-47B0-9C94-7EF570F8E9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E2234-0D54-4046-8E63-1F06716CD32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7FB4A-89F3-4F11-A082-5ABAA87F098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7E89E-4FDC-4F94-B3D2-426FE79A955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DF140-6FD0-49CF-B826-F2BDE33A8C4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8FADA-1421-4C71-A5B7-344191D4941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DE596-4664-4A4C-8CE8-A4CA10D1C4B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52952-D5A6-4597-933E-E5B113F80AE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ADF37-390A-42C4-BF87-3B9D8826344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96586-DFF9-40C8-8408-1234CE59F21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2604A-D9E5-4921-AE85-8C7CB7C3365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47A77-0A8C-45D2-8FED-0A382A41343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9EC50-A23F-4D22-99E1-C9747BA7E26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A8B0C-7E94-488A-B659-C3ABA18F99F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D323C-2D96-41C0-A169-09CEC716736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28856-F2DF-447D-9E94-CD4127A719A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14D3E-E893-4B21-843A-EF93E02C7F5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55097-C821-4B29-B255-711D1BBA531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167D7-6548-4C0C-B793-91A9DB8D48E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D1D53-F996-46BE-80D8-64D1BBF30CC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DB213-6F54-44B9-AC49-8F77013FCF4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AB46B-4CB7-43AD-8918-AAC690822DC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206CA-139C-49A5-B1EB-74A7ED70DB0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49A96-202D-4195-A2AF-881E5B270E1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11BE2-91E1-4C6A-86F3-483569D2882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BEC33-90BA-404D-8C80-21F94DE66B0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A1358-9D12-4973-B2EE-7E2431A8786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020000" y="115920"/>
            <a:ext cx="1944720" cy="6476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63EAD-24B3-4490-9A5C-BD74F96060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0A019-7A64-42C1-AD93-FE933124BE3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8C607-57A2-4F44-867C-2959ADCD2F7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7748B-736D-4D71-A01E-F8B88CB3230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332AA-C861-49D4-A8A3-686F4BADA01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F7312-B9DF-43E9-AC6F-183922488D7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74A87-2046-49BC-B80C-48F8FA3E36A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E8080-1B66-4913-BD98-98D3640C333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7BA01-0E7D-4C83-BFA4-583984BD7D7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E8278-6EA5-4109-A1DB-6CD098BDE2A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A46AA-2276-4E67-B847-876DBA81349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BEA42-4587-4E70-8CC2-27FDB3198BB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C7D74-4038-4DCF-92A2-5ACB2DC8017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image" Target="../media/image16.png"/><Relationship Id="rId8" Type="http://schemas.openxmlformats.org/officeDocument/2006/relationships/image" Target="../media/image16.png"/><Relationship Id="rId9" Type="http://schemas.openxmlformats.org/officeDocument/2006/relationships/image" Target="../media/image16.png"/><Relationship Id="rId10" Type="http://schemas.openxmlformats.org/officeDocument/2006/relationships/image" Target="../media/image16.png"/><Relationship Id="rId11" Type="http://schemas.openxmlformats.org/officeDocument/2006/relationships/image" Target="../media/image16.png"/><Relationship Id="rId1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4" name="图片 1" descr=""/>
          <p:cNvPicPr/>
          <p:nvPr/>
        </p:nvPicPr>
        <p:blipFill>
          <a:blip r:embed="rId1"/>
          <a:stretch/>
        </p:blipFill>
        <p:spPr>
          <a:xfrm>
            <a:off x="1133640" y="2914560"/>
            <a:ext cx="6876720" cy="10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7" name="Picture 1" descr=""/>
          <p:cNvPicPr/>
          <p:nvPr/>
        </p:nvPicPr>
        <p:blipFill>
          <a:blip r:embed="rId1"/>
          <a:stretch/>
        </p:blipFill>
        <p:spPr>
          <a:xfrm>
            <a:off x="1979640" y="81000"/>
            <a:ext cx="388800" cy="304920"/>
          </a:xfrm>
          <a:prstGeom prst="rect">
            <a:avLst/>
          </a:prstGeom>
          <a:ln w="0">
            <a:noFill/>
          </a:ln>
        </p:spPr>
      </p:pic>
      <p:pic>
        <p:nvPicPr>
          <p:cNvPr id="1028" name="图片 1" descr=""/>
          <p:cNvPicPr/>
          <p:nvPr/>
        </p:nvPicPr>
        <p:blipFill>
          <a:blip r:embed="rId2"/>
          <a:stretch/>
        </p:blipFill>
        <p:spPr>
          <a:xfrm>
            <a:off x="480960" y="1328760"/>
            <a:ext cx="8180280" cy="420048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1" descr=""/>
          <p:cNvPicPr/>
          <p:nvPr/>
        </p:nvPicPr>
        <p:blipFill>
          <a:blip r:embed="rId3"/>
          <a:stretch/>
        </p:blipFill>
        <p:spPr>
          <a:xfrm>
            <a:off x="1332000" y="218268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1" descr=""/>
          <p:cNvPicPr/>
          <p:nvPr/>
        </p:nvPicPr>
        <p:blipFill>
          <a:blip r:embed="rId4"/>
          <a:stretch/>
        </p:blipFill>
        <p:spPr>
          <a:xfrm>
            <a:off x="1346040" y="312732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1" descr=""/>
          <p:cNvPicPr/>
          <p:nvPr/>
        </p:nvPicPr>
        <p:blipFill>
          <a:blip r:embed="rId5"/>
          <a:stretch/>
        </p:blipFill>
        <p:spPr>
          <a:xfrm>
            <a:off x="1332000" y="406224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1" descr=""/>
          <p:cNvPicPr/>
          <p:nvPr/>
        </p:nvPicPr>
        <p:blipFill>
          <a:blip r:embed="rId6"/>
          <a:stretch/>
        </p:blipFill>
        <p:spPr>
          <a:xfrm>
            <a:off x="1346040" y="5013360"/>
            <a:ext cx="360360" cy="3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35" name="图片 1" descr=""/>
          <p:cNvPicPr/>
          <p:nvPr/>
        </p:nvPicPr>
        <p:blipFill>
          <a:blip r:embed="rId1"/>
          <a:stretch/>
        </p:blipFill>
        <p:spPr>
          <a:xfrm>
            <a:off x="237960" y="1595520"/>
            <a:ext cx="8668080" cy="3666960"/>
          </a:xfrm>
          <a:prstGeom prst="rect">
            <a:avLst/>
          </a:prstGeom>
          <a:ln w="0">
            <a:noFill/>
          </a:ln>
        </p:spPr>
      </p:pic>
      <p:pic>
        <p:nvPicPr>
          <p:cNvPr id="1036" name="图片 5122" descr=""/>
          <p:cNvPicPr/>
          <p:nvPr/>
        </p:nvPicPr>
        <p:blipFill>
          <a:blip r:embed="rId2"/>
          <a:stretch/>
        </p:blipFill>
        <p:spPr>
          <a:xfrm>
            <a:off x="2036880" y="3948120"/>
            <a:ext cx="1225440" cy="558720"/>
          </a:xfrm>
          <a:prstGeom prst="rect">
            <a:avLst/>
          </a:prstGeom>
          <a:ln w="0">
            <a:noFill/>
          </a:ln>
        </p:spPr>
      </p:pic>
      <p:pic>
        <p:nvPicPr>
          <p:cNvPr id="1037" name="图片 5123" descr=""/>
          <p:cNvPicPr/>
          <p:nvPr/>
        </p:nvPicPr>
        <p:blipFill>
          <a:blip r:embed="rId3"/>
          <a:stretch/>
        </p:blipFill>
        <p:spPr>
          <a:xfrm>
            <a:off x="3433680" y="3948120"/>
            <a:ext cx="1225800" cy="558720"/>
          </a:xfrm>
          <a:prstGeom prst="rect">
            <a:avLst/>
          </a:prstGeom>
          <a:ln w="0">
            <a:noFill/>
          </a:ln>
        </p:spPr>
      </p:pic>
      <p:pic>
        <p:nvPicPr>
          <p:cNvPr id="1038" name="图片 5124" descr=""/>
          <p:cNvPicPr/>
          <p:nvPr/>
        </p:nvPicPr>
        <p:blipFill>
          <a:blip r:embed="rId4"/>
          <a:stretch/>
        </p:blipFill>
        <p:spPr>
          <a:xfrm>
            <a:off x="4816440" y="3948120"/>
            <a:ext cx="1225440" cy="558720"/>
          </a:xfrm>
          <a:prstGeom prst="rect">
            <a:avLst/>
          </a:prstGeom>
          <a:ln w="0">
            <a:noFill/>
          </a:ln>
        </p:spPr>
      </p:pic>
      <p:pic>
        <p:nvPicPr>
          <p:cNvPr id="1039" name="图片 5125" descr=""/>
          <p:cNvPicPr/>
          <p:nvPr/>
        </p:nvPicPr>
        <p:blipFill>
          <a:blip r:embed="rId5"/>
          <a:stretch/>
        </p:blipFill>
        <p:spPr>
          <a:xfrm>
            <a:off x="6170760" y="3948120"/>
            <a:ext cx="1225440" cy="558720"/>
          </a:xfrm>
          <a:prstGeom prst="rect">
            <a:avLst/>
          </a:prstGeom>
          <a:ln w="0">
            <a:noFill/>
          </a:ln>
        </p:spPr>
      </p:pic>
      <p:pic>
        <p:nvPicPr>
          <p:cNvPr id="1040" name="图片 5126" descr=""/>
          <p:cNvPicPr/>
          <p:nvPr/>
        </p:nvPicPr>
        <p:blipFill>
          <a:blip r:embed="rId6"/>
          <a:stretch/>
        </p:blipFill>
        <p:spPr>
          <a:xfrm>
            <a:off x="7539120" y="3948120"/>
            <a:ext cx="1225440" cy="558720"/>
          </a:xfrm>
          <a:prstGeom prst="rect">
            <a:avLst/>
          </a:prstGeom>
          <a:ln w="0">
            <a:noFill/>
          </a:ln>
        </p:spPr>
      </p:pic>
      <p:pic>
        <p:nvPicPr>
          <p:cNvPr id="1041" name="图片 5127" descr=""/>
          <p:cNvPicPr/>
          <p:nvPr/>
        </p:nvPicPr>
        <p:blipFill>
          <a:blip r:embed="rId7"/>
          <a:stretch/>
        </p:blipFill>
        <p:spPr>
          <a:xfrm>
            <a:off x="2050920" y="4667400"/>
            <a:ext cx="1081080" cy="558720"/>
          </a:xfrm>
          <a:prstGeom prst="rect">
            <a:avLst/>
          </a:prstGeom>
          <a:ln w="0">
            <a:noFill/>
          </a:ln>
        </p:spPr>
      </p:pic>
      <p:pic>
        <p:nvPicPr>
          <p:cNvPr id="1042" name="图片 5128" descr=""/>
          <p:cNvPicPr/>
          <p:nvPr/>
        </p:nvPicPr>
        <p:blipFill>
          <a:blip r:embed="rId8"/>
          <a:stretch/>
        </p:blipFill>
        <p:spPr>
          <a:xfrm>
            <a:off x="3232080" y="4653000"/>
            <a:ext cx="1081080" cy="558720"/>
          </a:xfrm>
          <a:prstGeom prst="rect">
            <a:avLst/>
          </a:prstGeom>
          <a:ln w="0">
            <a:noFill/>
          </a:ln>
        </p:spPr>
      </p:pic>
      <p:pic>
        <p:nvPicPr>
          <p:cNvPr id="1043" name="图片 5129" descr=""/>
          <p:cNvPicPr/>
          <p:nvPr/>
        </p:nvPicPr>
        <p:blipFill>
          <a:blip r:embed="rId9"/>
          <a:stretch/>
        </p:blipFill>
        <p:spPr>
          <a:xfrm>
            <a:off x="4471920" y="4653000"/>
            <a:ext cx="1081080" cy="558720"/>
          </a:xfrm>
          <a:prstGeom prst="rect">
            <a:avLst/>
          </a:prstGeom>
          <a:ln w="0">
            <a:noFill/>
          </a:ln>
        </p:spPr>
      </p:pic>
      <p:pic>
        <p:nvPicPr>
          <p:cNvPr id="1044" name="图片 5130" descr=""/>
          <p:cNvPicPr/>
          <p:nvPr/>
        </p:nvPicPr>
        <p:blipFill>
          <a:blip r:embed="rId10"/>
          <a:stretch/>
        </p:blipFill>
        <p:spPr>
          <a:xfrm>
            <a:off x="5724360" y="4667400"/>
            <a:ext cx="1727280" cy="558720"/>
          </a:xfrm>
          <a:prstGeom prst="rect">
            <a:avLst/>
          </a:prstGeom>
          <a:ln w="0">
            <a:noFill/>
          </a:ln>
        </p:spPr>
      </p:pic>
      <p:pic>
        <p:nvPicPr>
          <p:cNvPr id="1045" name="图片 5131" descr=""/>
          <p:cNvPicPr/>
          <p:nvPr/>
        </p:nvPicPr>
        <p:blipFill>
          <a:blip r:embed="rId11"/>
          <a:stretch/>
        </p:blipFill>
        <p:spPr>
          <a:xfrm>
            <a:off x="7596360" y="4667400"/>
            <a:ext cx="1225440" cy="55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8" dur="5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3" dur="5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8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3" dur="5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8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53" dur="5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58" dur="5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3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8" dur="5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73" dur="5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48" name="图片 1" descr=""/>
          <p:cNvPicPr/>
          <p:nvPr/>
        </p:nvPicPr>
        <p:blipFill>
          <a:blip r:embed="rId1"/>
          <a:stretch/>
        </p:blipFill>
        <p:spPr>
          <a:xfrm>
            <a:off x="495360" y="1195560"/>
            <a:ext cx="8153280" cy="4466880"/>
          </a:xfrm>
          <a:prstGeom prst="rect">
            <a:avLst/>
          </a:prstGeom>
          <a:ln w="0">
            <a:noFill/>
          </a:ln>
        </p:spPr>
      </p:pic>
      <p:pic>
        <p:nvPicPr>
          <p:cNvPr id="1049" name="图片 6146" descr=""/>
          <p:cNvPicPr/>
          <p:nvPr/>
        </p:nvPicPr>
        <p:blipFill>
          <a:blip r:embed="rId2"/>
          <a:stretch/>
        </p:blipFill>
        <p:spPr>
          <a:xfrm>
            <a:off x="3262320" y="3284640"/>
            <a:ext cx="1366920" cy="558720"/>
          </a:xfrm>
          <a:prstGeom prst="rect">
            <a:avLst/>
          </a:prstGeom>
          <a:ln w="0">
            <a:noFill/>
          </a:ln>
        </p:spPr>
      </p:pic>
      <p:pic>
        <p:nvPicPr>
          <p:cNvPr id="1050" name="图片 6147" descr=""/>
          <p:cNvPicPr/>
          <p:nvPr/>
        </p:nvPicPr>
        <p:blipFill>
          <a:blip r:embed="rId3"/>
          <a:stretch/>
        </p:blipFill>
        <p:spPr>
          <a:xfrm>
            <a:off x="4154400" y="4738680"/>
            <a:ext cx="1366920" cy="55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80" dur="5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85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53" name="图片 1" descr=""/>
          <p:cNvPicPr/>
          <p:nvPr/>
        </p:nvPicPr>
        <p:blipFill>
          <a:blip r:embed="rId1"/>
          <a:stretch/>
        </p:blipFill>
        <p:spPr>
          <a:xfrm>
            <a:off x="880920" y="1247760"/>
            <a:ext cx="7382160" cy="4362480"/>
          </a:xfrm>
          <a:prstGeom prst="rect">
            <a:avLst/>
          </a:prstGeom>
          <a:ln w="0">
            <a:noFill/>
          </a:ln>
        </p:spPr>
      </p:pic>
      <p:pic>
        <p:nvPicPr>
          <p:cNvPr id="1054" name="图片 7170" descr=""/>
          <p:cNvPicPr/>
          <p:nvPr/>
        </p:nvPicPr>
        <p:blipFill>
          <a:blip r:embed="rId2"/>
          <a:stretch/>
        </p:blipFill>
        <p:spPr>
          <a:xfrm>
            <a:off x="2641680" y="1657440"/>
            <a:ext cx="1297080" cy="558720"/>
          </a:xfrm>
          <a:prstGeom prst="rect">
            <a:avLst/>
          </a:prstGeom>
          <a:ln w="0">
            <a:noFill/>
          </a:ln>
        </p:spPr>
      </p:pic>
      <p:pic>
        <p:nvPicPr>
          <p:cNvPr id="1055" name="图片 7171" descr=""/>
          <p:cNvPicPr/>
          <p:nvPr/>
        </p:nvPicPr>
        <p:blipFill>
          <a:blip r:embed="rId3"/>
          <a:stretch/>
        </p:blipFill>
        <p:spPr>
          <a:xfrm>
            <a:off x="2454120" y="3083040"/>
            <a:ext cx="1297080" cy="558720"/>
          </a:xfrm>
          <a:prstGeom prst="rect">
            <a:avLst/>
          </a:prstGeom>
          <a:ln w="0">
            <a:noFill/>
          </a:ln>
        </p:spPr>
      </p:pic>
      <p:pic>
        <p:nvPicPr>
          <p:cNvPr id="1056" name="图片 7172" descr=""/>
          <p:cNvPicPr/>
          <p:nvPr/>
        </p:nvPicPr>
        <p:blipFill>
          <a:blip r:embed="rId4"/>
          <a:stretch/>
        </p:blipFill>
        <p:spPr>
          <a:xfrm>
            <a:off x="1476360" y="4551480"/>
            <a:ext cx="1871640" cy="55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92" dur="5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97" dur="5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02" dur="5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52:26Z</dcterms:created>
  <dc:creator>未知用户</dc:creator>
  <dc:description/>
  <dc:language>en-US</dc:language>
  <cp:lastModifiedBy>万润仪器贸易公司</cp:lastModifiedBy>
  <dcterms:modified xsi:type="dcterms:W3CDTF">2020-08-14T08:25:02Z</dcterms:modified>
  <cp:revision>389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